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62B4-A4E4-441B-B0B2-019E80AC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C31C-1741-4C4A-81EE-8CB2CDA0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711C-B4DB-4D95-92A9-29D91E46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E2CD-3523-4B68-84AB-BCAE4893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9B5A-D475-441E-945E-5A3B92C1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0E55-9319-45E6-A1CD-09DA9083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4C1E-BB43-463C-83E2-C76B8E87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CF6C-269F-49A0-9EBE-2CA7E169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63DA-557E-4161-A5ED-C935F113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9D38-C453-4A2D-9197-3529DF91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A8F3-86D0-4C78-980A-E9154433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A240-DDC8-4057-BFC7-F580E200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A07F-968B-4F4F-9D2E-962551669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: С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амоспозна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стављање програма и портфолија за ученике/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 и договарање о начину 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интересо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ештина и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т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ред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моспознаја – аутопортр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очима друг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кав/каква сам у ти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ј тип уче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 за 10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 родитеље/старетеље и децу: Моја очеки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,3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формисање о занимањима, каријери и путевима образ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ика савременог света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4. Прикупљање и начин обраде информација  о школама и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5. Повезивање области рада са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6. Путеви образовања и 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7. Припрема за интерв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8. Спровођење интервју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9. Припрема сусрета са експертима у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0. Експерти у нашој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4,5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лни сусрети са светом рада и доношење одлуке о школовању и заним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1. Осверт на резултате информис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2. Посета средњој 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3. Посета предузећу/устан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4. Евалуација програма ПО за 7. раз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+ 15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часова реалних сус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3:00:5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